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CB4-EA8E-4DEE-B76E-25521AD9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CEF2-448A-47B2-A042-D36A6403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E3B-A507-4273-8855-1ADE0448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CCF-240E-4445-8D19-426B85A3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8C8-4602-4FEF-AD40-5E03F0BC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EB1-338B-4534-A855-5FB3B979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F56-9ACA-4F9A-9F97-6A43D040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92D-045E-4A28-8364-7F952D9E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B5B-13E0-4B55-9A0C-9305BB79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F3E-5782-4E04-9D1B-046D3591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3F8-F332-4EED-A3BF-6C512687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601-7DC9-4370-8FA0-3C400E1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298-EE01-4D6D-8011-5F13B4880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76320"/>
            <a:ext cx="5181480" cy="39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3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Find out what their names are and what they are do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What is he doing and what is she do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Add the numbers and write the correct number in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.  Which words fit in the “number house”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Answer, please and find the solutio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Who does what?  Read the text and fill out the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.  Draw a picture of the Lehmanns and write a corresponding text in your no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962520"/>
            <a:ext cx="868680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rite an appropriate question or answ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.  What fits?  Put an “x” marking the correct pers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.  Which words from the list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2.  Pantomime:  Act out words from the list.  Who guesses th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3.  Which words from the list correspond to the pictures?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4.  Write the appropriate words from the lis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5.  What is your opinion?  Decide and write an answer next to the wo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6.  Is that correct or incorrec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6386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Hart</cp:lastModifiedBy>
  <dcterms:modified xsi:type="dcterms:W3CDTF">2009-09-29T19:59:44Z</dcterms:modified>
  <cp:revision>8</cp:revision>
  <dc:subject/>
  <dc:title>Slide 1</dc:title>
</cp:coreProperties>
</file>